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AF3D-8B94-4BE2-8209-AF71BBBC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93DD-288C-4B81-9FF4-2108F4EE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FB229-1CDF-4514-88A4-0435BBDC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D34D1-6057-4BC8-9929-32B03B66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C58DB-F958-46CA-929B-71AB070A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40F87-D8E5-4CBC-90F8-5F9EA20A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09E4B-4C01-4380-9F9A-05C69D15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A2453-BCDE-4824-8644-FA664D80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CDBB7-0E27-4450-A45B-AE4E47B1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1C1A4-2892-407F-BE27-54BA4A61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CE75C-7D48-4561-83EC-2E4A2C6E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ED61D-1E25-4B7B-A143-0A642307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5706-F183-4665-9E3E-9FAD6F29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692E5-54A4-4743-B4F6-B960013B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37DAB-F7B5-4BC3-9BD4-1DDAFBB3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82D74-72BC-4FA0-9CA9-27636574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57EF5-9350-4754-99D7-CB09B49D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94984-D1A5-47EE-B2F4-FEC87ADE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4E720-63D6-454F-A103-FC7C8AE0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60B62-8970-4F04-A2D7-F181815A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6F820-FFA1-4828-87E1-3B668EF7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8DFC5-B084-4CEA-9AD5-9FEE8625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90949-DA35-4CFD-B01B-86DCBBEB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6E9F-7EBB-4496-BEE0-82A75D33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5B5EA-73B3-41FD-8DEA-6C70D01A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A6063-FDD5-459C-8610-39DE6771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7437F-6A12-4C95-8D88-F02CEF6E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06260-7385-497C-B96E-93917A82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35E00-9AEB-41CA-9858-587C040E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3EFE9-E954-4C27-8918-A812DC1C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B7645-73EE-4A01-B302-A9647F58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A6B54-53CA-45EE-B871-1ED771E0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1322B-02EC-4826-94D5-BD78F5F7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2ADE3-6483-497E-9092-C6DB5137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9818-6AB3-4900-BA5F-9730B6DD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68B2B-B249-47EC-8705-187DC2F9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F459D-3D51-4A9A-9F65-0830F99A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12FA0-2ECD-4E6D-9637-58E70C5F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3EF76-5904-4E01-BDC7-B083D805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6E851-30F1-4118-B07B-84A55E14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60560-D0D9-4A26-B36F-D34B4B3B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16A19-C12B-4234-8DF4-E841085D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E51B8-50D5-47B9-A13F-CF525469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998D5-1DE6-4C64-A3D2-7B98BC9D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95D96-D626-4814-BFC2-291B9455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34B7-738E-4A03-9422-24C5C08D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5F090-91D8-4752-8786-62695974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96E3D-F6DD-4347-94BB-41353F5C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9F9FE-A622-491B-B5CD-9BBD75F4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B03F6-86E2-4C07-A4AA-2D671E74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9268D-9494-4D62-923F-AA97FC08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32110C-1960-490A-A8E2-0268E572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8B55E4-B30D-44E9-82BE-595A4B7B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CBE0E3-2CB9-4FF5-B63B-885B54C4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2B8AA-C1B3-443D-8A9F-C26C93CA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6D7436-E980-42EC-943C-3CD6BC5B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EB67-F346-4480-9AF5-BF8C9F90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991FB-FDC2-4AE8-A84B-7F856A5A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56D42B-D54A-40C3-A311-60ADCA3B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D6B76C-A2DD-445A-B865-7D5B76B0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B6EE4C-E2B9-4F16-B187-082B4D65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2E671D-7901-4727-88E4-789E5AE0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CB4412-FD2B-40E9-89B3-F131351E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FBB55B-807D-46D7-8560-F67C3E7C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36291A-96F0-442E-A098-797A9481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0C7CA7-6EA7-4C1A-829B-6F2DC5A0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1051B5-8946-4359-989E-945F6CCB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2E3F-9AA0-4BBC-9EA2-2D5C97B1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872BED-500A-4797-92BC-068349C7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B34494-6B2F-4FFE-BEA2-7342393C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5217B7-7D81-408D-B5C2-E3EAB826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720BE4-3D49-4FA3-8839-788C690F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BA1252-6293-4711-AF2E-7110E6F2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D87D03-6FBD-4390-BA72-8D381529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4A8BB7-7B02-4C5F-ADF0-8CDD7D82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12E6EA-9C02-414E-9690-F1001203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0FF53E-F0BF-4130-B79C-148993B4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BA8BA6-F72B-4AC7-9C86-10309CA7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42BA-FB98-4145-B05B-7038B2E2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443BB4-AF19-427F-BE3D-74D41B58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79BD16-4131-4419-B5A2-E740721A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F52748-4BF5-446C-A762-25BEEBAE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32A5B7-6E15-48AB-84D2-9C72927F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B620C9-5AC6-48B6-9998-E74C078E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E2E624-5501-4D77-8D3F-2D3F6FAC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3F82E0-D53B-4A74-9EB8-E45FFD5A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9B7B86-F4CD-4642-ABA5-CC0F5FB5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93B994-6B41-4F8C-BD08-D7893CD3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01A43F-B8C4-4D66-A222-DACB86F7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889C-1F85-43C7-A5FD-E85A7CFB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9932B4-B18D-4A17-A4BC-18A66748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422A59-C264-41ED-8836-01AFFBB5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4DDB06-93E2-4F94-B5EE-51F2BB57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61F58D-1D3C-4FB3-9F72-138897E8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3821F2-BA50-4436-BBB6-8828DAF7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7769B9-3082-4490-9377-11D3132D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3B3885-3692-4427-B5C9-D2103D78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C1B57F-E14B-4915-AD1C-D4576728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6822A1-154B-41EF-BC32-BA627A8D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D39AF0-2BBD-44B1-8309-0DDEC2F2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7AC8-9A0A-449A-AFDA-4CA46317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E0E885-40CE-4CCA-9474-E2AA557C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DFDBD5-B172-4FD6-824D-5E4BF20A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27542D-647F-401F-B345-00DB1057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23D145-79C6-448C-97BD-40B281FC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13C5C3-1B7E-4987-A8A9-7B453564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EDC38B-C880-47CF-8905-62357581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85D113-EB98-41BA-8443-1B784C7F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01E079-F655-429E-B628-CF8CD163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45366E-4BD0-4EE8-97C8-6463A171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BFC251-ECEB-482D-BD9D-8C2A874E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6C2-9781-4327-BE09-5230F527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A856-4E93-4F09-9422-976B8F3C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31AF39-732D-4019-9BC7-9681D441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E985AF-686B-418E-B4B2-3B68F5DA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3BD99C-DC97-428E-916B-D890C741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415204-E900-45E7-B677-971D924A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49F39F-6B81-442D-9C60-782E87A0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AD09B8-1FEF-4DF5-9959-636B53BA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EA4D97-28AC-4B03-8193-53055503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434368-0A28-4B55-AA53-7D4E4CDF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570118-540B-4232-A516-575E8AFE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80386C-062D-4A1F-9AD1-B2278723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A98B-7FC4-44FB-B26B-8B149D15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2CD89A-FA73-4848-8378-D963EF16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05AC12-7D95-43C4-8391-B34436CF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D46858-B685-4124-BDE8-E9881309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CA9897-2D1C-4A56-971A-122DAD87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0A538C-23FE-4C92-909B-D62C5E5E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3C403D-BB07-4567-BBC1-6C44387D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37FE84-0592-4E82-B525-BBBDE039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E1CEC8-CE63-4D41-8558-93400033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C00720-220F-459B-B678-02CB5E5B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DE36E3-659D-4F27-AAF7-C2FD2E4B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49C5-17FF-49CC-8729-4A60A818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F6B424-BE19-4B15-B07D-CEA6D777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8C6673-E605-4B09-A888-23053F37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16BA8D-FA5A-45C4-A03C-E36A74E3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1C0BDB-5478-44D6-B568-CC69843E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8ECEB3-9B86-4853-83FF-4D922935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559EC2-2893-4864-A8A6-E24C5A1B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A6349F-204B-4DC6-9EA8-8429D3C9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75E15A-47F5-4793-A645-2F127069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9BDEB3-F11A-4860-AB97-581BB659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C03BC8-9EDD-4CE2-A8FA-3CA0EDB6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289A-FCCE-49C8-B383-FE634524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0D1ECE-AA69-4CCB-A041-305B354D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C57683-1472-4567-9D1B-D382D029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E384F5-3A05-40BB-AF02-A347F869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55B166-5E4A-4841-B526-500AE6AE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7AEAD9-1751-4485-930B-99306D5C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DAC2EB-D28B-4EE8-AA6F-72E3779D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07576C-0DF2-4A2B-A947-EACD7CF5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D9B187-2172-4C00-88E3-4EB590FB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A9CF62-31AE-409E-B768-0D00C7D6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61C79A-E4F7-4655-BF7A-8FEF6DF1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9DA6-E416-4EC9-A993-3A0FE324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E7D43F-C47A-4FA7-8CF0-ADB18676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48CCB0-B1B0-426A-913D-1D7BE1AA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4B23D1-8792-4E4C-AF57-4C1CCAE6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9430EB-9605-4F0B-A512-2A539E6D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B89FD5-B36E-4EEC-8C6C-CF938FB7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342881-7CD9-4D11-A0E8-3700DE15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B6883E-38C3-498C-AA40-8EBA7C24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B0B1A6-00F4-4E6A-BA8D-571F1B7E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745477-3316-4023-8122-881D15A9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4355B5-2EB5-45DB-A482-36C55A18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1C7F4-C7C6-448E-A46F-4F2290CF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2F68A9-E32B-4A3C-B1B0-576632B4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ECD223-01C0-43A0-8C14-45959564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2E062D-7A7C-422F-91B8-16D6F971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DE7DA-5A11-4B3D-B3A2-16E3C082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C0087-6B1A-482A-8625-E815873A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8AA71-F248-455F-B15D-69060E8B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4A053-9F33-49AC-9FF6-A872FEA4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2580-7E5B-4F72-A332-1A52A8E7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FDB89-D0DD-442E-9FC8-34F480AC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771F8-7595-4BF4-A1E3-EBCC3357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E020C-0754-4BBE-8981-B7F0DF8B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3C65F-9F95-4D91-80BE-E9F5F8BE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D5396-24E5-4787-A9C8-FBA0A337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A47E6-6D30-453F-B994-A535445E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72DC6-C7AC-4C72-806E-B84293C7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2D02D-D7AA-406B-BA75-82B92D9C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B4B6F-E756-4E4E-803F-1750B7FA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ECA4C-AA05-43EF-B501-D9B0A48F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46DD-3627-4772-80CE-7D02BDEE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D3BA7-AF5F-45DC-8E4A-81D076C3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F337F-9D9E-4B19-ABF7-3081B7F6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A3204-A16D-471C-8F00-32A7F7F5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37A34-CF94-46DF-9104-D8BC77FF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C0A11-1F67-41E3-8B0B-6682C1AC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E5FE5-755D-4733-A142-130100DE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385F8-009A-4B07-90AF-54B26BA5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A7EE5-BB1C-48B0-B4E0-7BA870E7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2E8C2-C199-4146-A283-CD548296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A166D-C172-4220-8FDF-CAEE3233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B21B-466C-4E15-8880-30870F6C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5482A-6918-463D-A88D-57E632E6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388CC-0A89-424D-852F-E62719AD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E4BAD-C9B0-4AD5-955D-1E4DD631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4853B-8977-4493-BCE6-5DD6CD04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E995C-8D02-4413-BD03-E3D5B838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5F415-691A-4326-920A-11BC066C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7FC71-194F-4D33-B0A0-0996FCAA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C0E1D-1540-4616-9382-2F8B5F0B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9A1B3-53F3-49A6-90FD-7B941A27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5EDDC-E66C-4198-AE66-F2530B99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D590-6996-4284-9662-35825FD1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22428-B64E-4490-B679-51FBC4E8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0CEE3-2DD9-447A-9D30-272751B6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99DC7-03C0-4E5D-B59E-F5752C0D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70A7B-4168-49D2-A6DB-63F34823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3E17A-9291-43AA-9745-C54284CC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90696-C595-4AEC-B591-4FA43981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B47B5-0A26-481D-9B16-C6783587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536DD-7BF0-4838-A3CF-9D37E564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CF966-820B-4A53-8488-225EFFEC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5676D-9863-4E38-9F28-FB674099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201-F737-453F-A8DC-A7CDCC8A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9FB7B-3302-4A92-8329-4D13C085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B9457-77A2-4535-BB51-9FF69837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F81D9-DE01-435E-8F0F-0161A64C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60BC3-7872-478F-B5BC-9F4D80C7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7D02D-EE65-4FC9-998B-EB719D04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647D1-84B9-44B4-813C-B956294D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15421-1CAD-4D55-8E42-45FA0F41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A644C-6AD0-48B9-92F4-1BB0DB58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075BF-8C34-4BAF-9C4E-7F04C436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E5D9A-34AF-4B76-8DF4-B37E547A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743-65CB-4ED1-83C0-FB58DF23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C2FF1-8971-4C20-826A-62A9F495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874BB-DD10-458B-B820-75322287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3674B-4711-4937-A8C3-8683C1C9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1DAEF-C45C-4DC3-8EF4-2B946550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834F0-6CE3-4F28-B0E5-532BCA06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9A2AF-3C3B-42B6-99EA-03E9B0FA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3AF29-7CAF-486A-BD72-68E34117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C15C0-F803-4842-B120-4DDC618D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288DC-E620-401F-AE04-5A5D4894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AAA03-49C8-4A09-8960-1601B27E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302-4A94-4F6E-9CBE-6866FF75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C2FAA-EE3C-46BE-976C-D176DA7B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58DCB-E367-4DCD-B5E6-E71916B2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1BF67-4630-4899-8DB3-5CFBF70E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A06CC-8584-4FBB-81C4-2D616409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0241E-9D46-4EC9-9EE8-7C275372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43CE2-D75A-4A16-AAEA-FB8B1137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1F26C-2C07-4A0C-B375-34F02745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9D258-739D-475E-A4A3-BB7A45B6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62FC1-6751-46FD-A69B-01540DA1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6EE39-3209-4B0D-9D8F-DB867BCC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8B8E-E7FA-4CE1-9381-384C2D31B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08F4-12B8-4E8E-935B-2BFE68F3DD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140D-518A-43CB-9E8F-CAB251BF8D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859F-34D1-44D7-A5F1-E77B3CE64A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646E-CD75-41C7-B47E-39E0A3CE97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6387-9B64-454E-93EE-6F56CF0D82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7A41-FD85-44C0-A478-B57AA2DADB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07EE-F38B-4DCE-A8EF-531390F208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BB5C-D800-43CF-857E-75C36E536A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B599-A5E2-4C9B-929D-79F58C7696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5F15-0D91-493D-B68F-B278AB8A09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D727-9F2C-4B7D-A64C-6C60C2206E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0F87-65D0-46F9-8E3D-E76B219314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26F6-1479-4B60-9CFD-37BD969F7A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2C94-D378-4414-82AB-5E17DB1E1F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EBD2-B9FE-4857-9436-8BA9EA8A7F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D06F-FCAC-4E07-BF3D-9149D5F227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27C1-DDD1-4CBA-A524-C776AD57FC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1F3F-2CC5-4A41-B62C-5F6FBBD626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B246-790A-4909-B4ED-3BCCC26C46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FE2B-EBE8-4A57-ACB2-6CA558623C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C030-EBFE-4D82-ADD1-457AB2FC15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F4AA-F662-43B1-82D7-98E407E619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99DF-48F9-485D-B664-8A4E94CC22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DA13-8F6D-4F63-9DC2-8657DE8879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5A84-8C49-4CA2-8F04-6BABAD43D8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5BF0-F62E-48AB-918D-C35983B4D0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0070-222B-4E55-BFA3-555FBA726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7974-DA05-4D4C-A39A-D11EC642DC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5F51-245D-4E7B-885A-B2FB424FD9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3D79-00FC-42F3-8755-633C4AB523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F659-5D1C-4038-BF3C-1CD93CF045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74D5-0AB3-4B2B-A2CC-4D96CE4E50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7D8C-8BEF-45A1-9CD1-54A8580BAB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EB75-0763-466E-B25F-C067B66C92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BAA1-C993-4068-9999-41C0EF431E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FA2E-0DFE-4FCC-B3D4-683D157C94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2F96-D20D-4D50-940E-8427093D1E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9BEA-CF60-4765-A852-70A00F271A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19A2-348B-41FF-92A3-5D9B8647E4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357120" y="1928880"/>
            <a:ext cx="8182080" cy="10666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1" descr=""/>
          <p:cNvPicPr/>
          <p:nvPr/>
        </p:nvPicPr>
        <p:blipFill>
          <a:blip r:embed="rId2"/>
          <a:stretch/>
        </p:blipFill>
        <p:spPr>
          <a:xfrm>
            <a:off x="1928880" y="3429000"/>
            <a:ext cx="52102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2" descr=""/>
          <p:cNvPicPr/>
          <p:nvPr/>
        </p:nvPicPr>
        <p:blipFill>
          <a:blip r:embed="rId1"/>
          <a:stretch/>
        </p:blipFill>
        <p:spPr>
          <a:xfrm>
            <a:off x="461880" y="1419120"/>
            <a:ext cx="822024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1052640" y="3086280"/>
            <a:ext cx="7038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2" descr=""/>
          <p:cNvPicPr/>
          <p:nvPr/>
        </p:nvPicPr>
        <p:blipFill>
          <a:blip r:embed="rId1"/>
          <a:stretch/>
        </p:blipFill>
        <p:spPr>
          <a:xfrm>
            <a:off x="466560" y="1162080"/>
            <a:ext cx="8210880" cy="453384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928800" y="285768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2" descr=""/>
          <p:cNvPicPr/>
          <p:nvPr/>
        </p:nvPicPr>
        <p:blipFill>
          <a:blip r:embed="rId1"/>
          <a:stretch/>
        </p:blipFill>
        <p:spPr>
          <a:xfrm>
            <a:off x="461880" y="1528920"/>
            <a:ext cx="8220240" cy="3800160"/>
          </a:xfrm>
          <a:prstGeom prst="rect">
            <a:avLst/>
          </a:prstGeom>
          <a:ln w="0">
            <a:noFill/>
          </a:ln>
        </p:spPr>
      </p:pic>
      <p:sp>
        <p:nvSpPr>
          <p:cNvPr id="1028" name="矩形 2"/>
          <p:cNvSpPr/>
          <p:nvPr/>
        </p:nvSpPr>
        <p:spPr>
          <a:xfrm>
            <a:off x="928800" y="157176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3"/>
          <p:cNvSpPr/>
          <p:nvPr/>
        </p:nvSpPr>
        <p:spPr>
          <a:xfrm>
            <a:off x="857160" y="350028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2" descr=""/>
          <p:cNvPicPr/>
          <p:nvPr/>
        </p:nvPicPr>
        <p:blipFill>
          <a:blip r:embed="rId1"/>
          <a:stretch/>
        </p:blipFill>
        <p:spPr>
          <a:xfrm>
            <a:off x="476280" y="1757520"/>
            <a:ext cx="8191440" cy="3342960"/>
          </a:xfrm>
          <a:prstGeom prst="rect">
            <a:avLst/>
          </a:prstGeom>
          <a:ln w="0">
            <a:noFill/>
          </a:ln>
        </p:spPr>
      </p:pic>
      <p:sp>
        <p:nvSpPr>
          <p:cNvPr id="1031" name="矩形 2"/>
          <p:cNvSpPr/>
          <p:nvPr/>
        </p:nvSpPr>
        <p:spPr>
          <a:xfrm>
            <a:off x="928800" y="185724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3"/>
          <p:cNvSpPr/>
          <p:nvPr/>
        </p:nvSpPr>
        <p:spPr>
          <a:xfrm>
            <a:off x="857160" y="328608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2" descr=""/>
          <p:cNvPicPr/>
          <p:nvPr/>
        </p:nvPicPr>
        <p:blipFill>
          <a:blip r:embed="rId1"/>
          <a:stretch/>
        </p:blipFill>
        <p:spPr>
          <a:xfrm>
            <a:off x="571680" y="1214280"/>
            <a:ext cx="8172360" cy="24861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2"/>
          <a:stretch/>
        </p:blipFill>
        <p:spPr>
          <a:xfrm>
            <a:off x="571680" y="3714840"/>
            <a:ext cx="5190840" cy="1457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3"/>
          <a:stretch/>
        </p:blipFill>
        <p:spPr>
          <a:xfrm>
            <a:off x="5786280" y="3857760"/>
            <a:ext cx="2895840" cy="2181240"/>
          </a:xfrm>
          <a:prstGeom prst="rect">
            <a:avLst/>
          </a:prstGeom>
          <a:ln w="0">
            <a:noFill/>
          </a:ln>
        </p:spPr>
      </p:pic>
      <p:sp>
        <p:nvSpPr>
          <p:cNvPr id="1036" name="矩形 4"/>
          <p:cNvSpPr/>
          <p:nvPr/>
        </p:nvSpPr>
        <p:spPr>
          <a:xfrm>
            <a:off x="5786280" y="1714680"/>
            <a:ext cx="857520" cy="388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5"/>
          <p:cNvSpPr/>
          <p:nvPr/>
        </p:nvSpPr>
        <p:spPr>
          <a:xfrm>
            <a:off x="4714920" y="2643120"/>
            <a:ext cx="1071360" cy="420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6"/>
          <p:cNvSpPr/>
          <p:nvPr/>
        </p:nvSpPr>
        <p:spPr>
          <a:xfrm>
            <a:off x="1785960" y="3143160"/>
            <a:ext cx="1785960" cy="400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7"/>
          <p:cNvSpPr/>
          <p:nvPr/>
        </p:nvSpPr>
        <p:spPr>
          <a:xfrm>
            <a:off x="3286080" y="4214880"/>
            <a:ext cx="1000080" cy="388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2" descr=""/>
          <p:cNvPicPr/>
          <p:nvPr/>
        </p:nvPicPr>
        <p:blipFill>
          <a:blip r:embed="rId1"/>
          <a:stretch/>
        </p:blipFill>
        <p:spPr>
          <a:xfrm>
            <a:off x="785880" y="714240"/>
            <a:ext cx="5114880" cy="9525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2"/>
          <a:stretch/>
        </p:blipFill>
        <p:spPr>
          <a:xfrm>
            <a:off x="571680" y="2357280"/>
            <a:ext cx="8229600" cy="42483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5" descr=""/>
          <p:cNvPicPr/>
          <p:nvPr/>
        </p:nvPicPr>
        <p:blipFill>
          <a:blip r:embed="rId3"/>
          <a:stretch/>
        </p:blipFill>
        <p:spPr>
          <a:xfrm>
            <a:off x="2286000" y="1285920"/>
            <a:ext cx="5572080" cy="1009440"/>
          </a:xfrm>
          <a:prstGeom prst="rect">
            <a:avLst/>
          </a:prstGeom>
          <a:ln w="0">
            <a:noFill/>
          </a:ln>
        </p:spPr>
      </p:pic>
      <p:sp>
        <p:nvSpPr>
          <p:cNvPr id="1043" name="矩形 4"/>
          <p:cNvSpPr/>
          <p:nvPr/>
        </p:nvSpPr>
        <p:spPr>
          <a:xfrm>
            <a:off x="2143080" y="2357280"/>
            <a:ext cx="857160" cy="389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5"/>
          <p:cNvSpPr/>
          <p:nvPr/>
        </p:nvSpPr>
        <p:spPr>
          <a:xfrm>
            <a:off x="5572080" y="3286080"/>
            <a:ext cx="12146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6"/>
          <p:cNvSpPr/>
          <p:nvPr/>
        </p:nvSpPr>
        <p:spPr>
          <a:xfrm>
            <a:off x="7000920" y="4286160"/>
            <a:ext cx="1357200" cy="389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7"/>
          <p:cNvSpPr/>
          <p:nvPr/>
        </p:nvSpPr>
        <p:spPr>
          <a:xfrm>
            <a:off x="5122800" y="5249880"/>
            <a:ext cx="1571760" cy="396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8"/>
          <p:cNvSpPr/>
          <p:nvPr/>
        </p:nvSpPr>
        <p:spPr>
          <a:xfrm>
            <a:off x="6215040" y="5715000"/>
            <a:ext cx="1214640" cy="388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3" descr=""/>
          <p:cNvPicPr/>
          <p:nvPr/>
        </p:nvPicPr>
        <p:blipFill>
          <a:blip r:embed="rId1"/>
          <a:stretch/>
        </p:blipFill>
        <p:spPr>
          <a:xfrm>
            <a:off x="442800" y="957240"/>
            <a:ext cx="8258400" cy="4943520"/>
          </a:xfrm>
          <a:prstGeom prst="rect">
            <a:avLst/>
          </a:prstGeom>
          <a:ln w="0">
            <a:noFill/>
          </a:ln>
        </p:spPr>
      </p:pic>
      <p:sp>
        <p:nvSpPr>
          <p:cNvPr id="1049" name="矩形 2"/>
          <p:cNvSpPr/>
          <p:nvPr/>
        </p:nvSpPr>
        <p:spPr>
          <a:xfrm>
            <a:off x="2714760" y="3500280"/>
            <a:ext cx="500040" cy="389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3"/>
          <p:cNvSpPr/>
          <p:nvPr/>
        </p:nvSpPr>
        <p:spPr>
          <a:xfrm>
            <a:off x="1571760" y="5357880"/>
            <a:ext cx="500040" cy="388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3" descr=""/>
          <p:cNvPicPr/>
          <p:nvPr/>
        </p:nvPicPr>
        <p:blipFill>
          <a:blip r:embed="rId1"/>
          <a:stretch/>
        </p:blipFill>
        <p:spPr>
          <a:xfrm>
            <a:off x="461880" y="1495440"/>
            <a:ext cx="8220240" cy="3867120"/>
          </a:xfrm>
          <a:prstGeom prst="rect">
            <a:avLst/>
          </a:prstGeom>
          <a:ln w="0">
            <a:noFill/>
          </a:ln>
        </p:spPr>
      </p:pic>
      <p:sp>
        <p:nvSpPr>
          <p:cNvPr id="1052" name="矩形 2"/>
          <p:cNvSpPr/>
          <p:nvPr/>
        </p:nvSpPr>
        <p:spPr>
          <a:xfrm>
            <a:off x="3929040" y="1500120"/>
            <a:ext cx="500040" cy="389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3"/>
          <p:cNvSpPr/>
          <p:nvPr/>
        </p:nvSpPr>
        <p:spPr>
          <a:xfrm>
            <a:off x="2714760" y="2857680"/>
            <a:ext cx="500040" cy="388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4"/>
          <p:cNvSpPr/>
          <p:nvPr/>
        </p:nvSpPr>
        <p:spPr>
          <a:xfrm>
            <a:off x="2286000" y="4286160"/>
            <a:ext cx="500040" cy="389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1:4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